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29AF-D4DE-40CC-85B5-7CA712CB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A063-0D98-4556-82DB-D509B3E8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7C56-4973-407B-8A6E-C9162A3B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078F-A32B-4FAA-B7A5-59AF5419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F4AE-3C60-4BDF-987D-C3327C96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2EE5-F0A7-47A7-AF05-77072DD8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261A-3773-4BEB-AA01-6E875571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C6C4-E144-4A8B-884E-21CDC46F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83BE-3798-4C1E-AA8F-AE04F580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53E6-8055-4B8F-AB44-8B9C82B3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6999-0D7A-443B-ADF7-0CACDA0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B42A-11F5-46F1-80D9-7700B757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92FD-1864-460F-88E7-2A4E8F57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16E0-8F50-4631-98CD-93FBC4D7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ED56-7BAD-4990-B85E-19DDE849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323D-309F-4D31-BD30-05A4326D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8ED0-67C1-4636-B120-1F162EF3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0AB7-3D36-4C62-AAB1-EC495411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6190-4CDC-4872-AD46-22C2623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B2EE5-6086-4318-972A-47C8D5E8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C2EA-7515-4733-8EF6-5B14707C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AEF2-E970-481B-B007-6445B32E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7757-7DFB-48A2-95DA-C8B2BC6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1769-EDB3-4E0B-92FC-2B1B7E3C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907C-C99B-444F-9B45-4B1705EEB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DB69-DD4A-46BA-9091-CC780285F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clads &amp; New Orl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cl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ril 1862, Southern ports closed except for Charleston and Wilmington (N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861, Confederates begin armoring vessels with iron pl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degar Iron Works construct two layers of two inch thick iron…gun shots would ricochet off of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rimack (C.S.S. Virgini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Guns, Iron ram to destroy wooden 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– unreliable engines and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– inspires hope for South, fear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File:CSSVirginia1862.2.ws.jpg"/>
          <p:cNvPicPr/>
          <p:nvPr/>
        </p:nvPicPr>
        <p:blipFill>
          <a:blip r:embed="rId1"/>
          <a:stretch/>
        </p:blipFill>
        <p:spPr>
          <a:xfrm>
            <a:off x="4572000" y="22096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S. Moni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by John 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3 months late, finished 2 week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 (8 knots), revolving tur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armoring changes navies across the globe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File:USSMonitor1862.2.ws.jpg"/>
          <p:cNvPicPr/>
          <p:nvPr/>
        </p:nvPicPr>
        <p:blipFill>
          <a:blip r:embed="rId1"/>
          <a:stretch/>
        </p:blipFill>
        <p:spPr>
          <a:xfrm>
            <a:off x="4343400" y="1981080"/>
            <a:ext cx="4495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tle of New Orl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Ma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8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rleans – largest city in the Confederacy and an international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tured by David G. Farrag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tured unopposed after sailing past outlying 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controls almost all of the Mississippi River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4:20:41Z</dcterms:created>
  <dc:creator>Robert G. Finkbeiner</dc:creator>
  <dc:description/>
  <dc:language>en-US</dc:language>
  <cp:lastModifiedBy>PA Department of Education Classrooms for the Future</cp:lastModifiedBy>
  <dcterms:modified xsi:type="dcterms:W3CDTF">2011-12-05T19:59:01Z</dcterms:modified>
  <cp:revision>9</cp:revision>
  <dc:subject/>
  <dc:title>Ironclads &amp; New Orleans</dc:title>
</cp:coreProperties>
</file>